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39800"/>
            <a:ext cx="49258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D7F-B790-43AF-916D-CA10D068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6DB-0401-45C6-BF34-2B22825B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E4B4-6536-44B3-9E6B-43681330B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4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250-16E8-4AD5-BFFC-A2B0E396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8AB-574B-4954-ABC1-2532E662B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AEED-6821-4892-A2BC-FBF37D55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D943-5EAE-420F-9BB1-1C676945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891E-B93D-4296-87D2-20A79F437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06E4-E05E-4B38-8907-2B7390283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258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2840" y="4681080"/>
            <a:ext cx="53895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E20-4946-490B-9438-D46E9AB2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F6E-5D66-4C98-9690-F970031E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F9E-4C7F-4015-9E4A-53C9EFDC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786-A4E0-4A36-93D8-9A19091F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6D4-D438-4ED5-9B06-CC20D365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C0A-A886-49B4-A190-4CF24D5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3D5-DC8A-41DC-9FDF-74655BDA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68F-7A96-4425-A1EE-D1B6349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F9D-3C8B-4EAA-BEDC-0A640418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4BD-9EB8-4994-8DA5-F8BD680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756-69B1-45B8-9261-982A63E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FF3-4481-4D9B-A3F9-FD372CA2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E17-6A32-4650-AC3A-1D1C9812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49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35"/>
          <p:cNvSpPr/>
          <p:nvPr/>
        </p:nvSpPr>
        <p:spPr>
          <a:xfrm>
            <a:off x="304920" y="3340080"/>
            <a:ext cx="84582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VPD un IeVP darbinieku apmācību vajadzī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ētījuma rezultātu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Gitāna Dāvid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dītāja, vadošā konsultante</a:t>
            </a:r>
            <a:r>
              <a:rPr b="1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7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647640" y="-111240"/>
            <a:ext cx="949176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amatinformācija par pētīju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802800"/>
            <a:ext cx="808848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ījuma mērķ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adīt analītisko bāzi un iegūt informāciju par esošā apmācību procesa un satura atbilstību IeVP un VPD funkciju izpildei un identificēt pilnveidojamās apmācību j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Norises laik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2009. gada janvāris –m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ētnieku kvalifikāc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ģistra grāds psiholoģ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smaz 5 gadu pedagoģiskā darba piered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ieeja pētījuma veikšan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nepieciešamas šobrī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ādas zināšanas, prasmes un iemaņas ir būs nepieciešamas nākotnē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s ir pašreizējais zināšanu, prasmju un iemaņu līmenis VPD un IeVP speciālistiem un vadošajam personāl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i ir pieejamās apmācības kompetenču attīstīb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872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niecības met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10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Funkcionālā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okumentu analī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ntervijas ar iestāžu vadošajām amatpersonām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okusgrupu diskusijas (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ersonāla perspektīv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nalīze, dalībnieku atsauk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adziļinātas intervijas (16 VPD; 15 ar virsnieki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Grupu intervijas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VPD darbinieku un klientu sarunu novērošana 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Strukturēta klientu lietu vadības analīze (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86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ozīmīgākie pētījuma rezultā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360" y="764640"/>
            <a:ext cx="817884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airāku mācību programmu izvērtēj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: Jauno darbinieku apmācību programma, Individuālais darbs ar klientu u.c.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IeVP: programma “Ieslodzījuma vietu apsard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Metodiskā un klientu perspektī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98320" y="3886200"/>
            <a:ext cx="8178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stematizēts apkopojums par VPD vecākā referenta amatā nepieciešamajām zināšanām un prasmē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ktuālo mācību vajadzību apzināšana VPD darbinieki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85720" y="2455920"/>
            <a:ext cx="81788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Priekšlikumi par mācību tēmām un mācību programmas saturu 2 jaunām mācību programmā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irsniekiem IeV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VPD darbinieki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561960" y="5200560"/>
            <a:ext cx="817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Arial"/>
              </a:rPr>
              <a:t>Apmācību sistēmu izvērtējums VPD un IeVP, priekšlikumi to pilnveidošan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8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98" name="Picture 9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5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35"/>
          <p:cNvSpPr/>
          <p:nvPr/>
        </p:nvSpPr>
        <p:spPr>
          <a:xfrm>
            <a:off x="304920" y="1401840"/>
            <a:ext cx="84582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ūtiskākie secinājumi un priekšlik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ācību programmu analī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ērķi un saturs lielā mērā nodrošina darbam nepieciešamo zināšanu un prasmju attīstīb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alielināt praktisko mācību metožu vietu un īpats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pmācību sistē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ācību programmu atbilstība apmācību mērķ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Lielā mērā nodrošināta programmu savstarpējā saskaņotība un pēctecīb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teicams pilnveidot apmācību kvalitātes uzraudzības mehān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08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-41904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ētījuma veiksmes fakt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5120" y="3348000"/>
            <a:ext cx="81788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ša konsultantu sadarbība ar projekta darba gru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nošanās par pētījuma metodēm un sagaidāmajiem rezultāt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ionālo kompetenču siner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ama projekta vadī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39880" y="581040"/>
            <a:ext cx="8205840" cy="2617560"/>
            <a:chOff x="839880" y="581040"/>
            <a:chExt cx="8205840" cy="2617560"/>
          </a:xfrm>
        </p:grpSpPr>
        <p:sp>
          <p:nvSpPr>
            <p:cNvPr id="117" name="Rectangle 10"/>
            <p:cNvSpPr/>
            <p:nvPr/>
          </p:nvSpPr>
          <p:spPr>
            <a:xfrm>
              <a:off x="839880" y="58104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adošā personāla ieinteresētība abās iestādē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66880" y="1687320"/>
              <a:ext cx="81788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15360" indent="-31536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mācības kā nozīmīga prioritāte iestāžu darb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stēmiska pieeja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ūsdienīgas mācību meto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83280" indent="-262800"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20" name="Picture 3" descr="fons1_oda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9144000" cy="59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Rectangle 4"/>
            <p:cNvSpPr/>
            <p:nvPr/>
          </p:nvSpPr>
          <p:spPr>
            <a:xfrm>
              <a:off x="0" y="900000"/>
              <a:ext cx="9144000" cy="88920"/>
            </a:xfrm>
            <a:prstGeom prst="rect">
              <a:avLst/>
            </a:prstGeom>
            <a:solidFill>
              <a:srgbClr val="94a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>
              <a:off x="0" y="993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1521000" y="0"/>
              <a:ext cx="7623000" cy="900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dd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7" descr="Logo"/>
            <p:cNvPicPr/>
            <p:nvPr/>
          </p:nvPicPr>
          <p:blipFill>
            <a:blip r:embed="rId2"/>
            <a:stretch/>
          </p:blipFill>
          <p:spPr>
            <a:xfrm>
              <a:off x="441360" y="150840"/>
              <a:ext cx="119844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Textx"/>
            <p:cNvPicPr/>
            <p:nvPr/>
          </p:nvPicPr>
          <p:blipFill>
            <a:blip r:embed="rId3"/>
            <a:stretch/>
          </p:blipFill>
          <p:spPr>
            <a:xfrm>
              <a:off x="426960" y="6524640"/>
              <a:ext cx="8285400" cy="1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3080" y="-27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Paldies par sadarbīb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ĪPA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PD un IeVP vadošajām amatpersonā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leksandram Dementje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Leonīdam Jefremov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inai Pūrītei un Lienei Zeibot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ojekta komand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ihailam Papsujevič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Dainai Vanagai un Anvaram Zavack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8:10:00Z</dcterms:created>
  <dc:creator>Maris</dc:creator>
  <dc:description/>
  <dc:language>en-US</dc:language>
  <cp:lastModifiedBy>Gitana</cp:lastModifiedBy>
  <dcterms:modified xsi:type="dcterms:W3CDTF">2010-12-14T17:51:49Z</dcterms:modified>
  <cp:revision>465</cp:revision>
  <dc:subject/>
  <dc:title>Organization Development Academy</dc:title>
</cp:coreProperties>
</file>