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9930-7674-4C6E-AE98-6EA77186C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6E94-6FDB-44AB-9A4B-0010E513D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3387-6160-4FBB-A88F-5ACC0183D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C7E2-570F-4E1C-90F2-ACD447302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9449-6B90-4F45-AF1B-F1DD26C3A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EC5F-D819-412A-9CB8-253C33CD8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56F3-85C2-4C7D-8F02-206719E3A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C736-AC5B-44EF-B10F-2F5354A8D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1751-A5FC-4220-B7D6-5C8AE5106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42B2-0DE7-49DB-A5A8-DD8E02B38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F7B0-46DB-4D9C-A423-A518E8B2A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CCC4-3621-4DE4-BFDC-E9AB8724C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9523-B329-46F7-AF0B-EA6157942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87AA-8262-42E6-951A-1DCFB0897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9F3E-8359-4D08-9EDB-11A80A5AC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A.Dementje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Uzsvars uz pieaugošo tēmas aktualitāti, par ko liecina arī skaitļ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FE88-A6CB-44FA-BD18-87950D8E9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A3E-4DD4-40D6-B55D-79227973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0EC-09AE-4A21-A497-AF63CCAB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23F-7AEA-47A3-A8FF-B04840B0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750-3447-4751-A1DF-BFD9ADE6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D91-0104-4E31-896E-6137FCEB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49A-C712-4C89-A767-EED096FC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2F1-A38B-43C3-87FB-ADA2FEEA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D9C-407E-4027-A883-33A6A698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9E8-C48D-4767-9DEC-8C9211B8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EA5-B018-4B45-9B40-DBEF67BB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D58-68C3-47C9-9BA8-9AD2D8A8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B6B-5CF1-4009-BD9C-F645489E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189000"/>
            <a:ext cx="7345080" cy="504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020600"/>
            <a:ext cx="6845400" cy="552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5C1F-6912-4C06-A17E-0949E3C64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189000"/>
            <a:ext cx="611280" cy="5032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8" descr="zils"/>
          <p:cNvPicPr/>
          <p:nvPr/>
        </p:nvPicPr>
        <p:blipFill>
          <a:blip r:embed="rId5"/>
          <a:stretch/>
        </p:blipFill>
        <p:spPr>
          <a:xfrm>
            <a:off x="611280" y="189000"/>
            <a:ext cx="129528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4920" y="1700280"/>
            <a:ext cx="8435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Valsts probācijas dienesta individuālais projekts Nr.LV0024</a:t>
            </a:r>
            <a:r>
              <a:rPr b="1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“</a:t>
            </a:r>
            <a:r>
              <a:rPr b="0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Latvijas probācijas un </a:t>
            </a:r>
            <a:br>
              <a:rPr sz="3200"/>
            </a:br>
            <a:r>
              <a:rPr b="0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eslodzījumu vietu sistēmas </a:t>
            </a:r>
            <a:br>
              <a:rPr sz="3200"/>
            </a:br>
            <a:r>
              <a:rPr b="0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ersonāla kapacitātes celšana</a:t>
            </a: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”</a:t>
            </a:r>
            <a:r>
              <a:rPr b="0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3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Moduļa 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1 Darbs ar dažādu mērķa grupu klientiem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1 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Darbs ar personām ar garīgas veselības traucējumie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2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Darbs ar dzimumnoziedzniekie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3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 personām ar atkarības problēmā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4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nepilngadīgu likumpārkāpēju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5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Darbs ar klientu ar īpašām vajadzībā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6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etniskajām, reliģiskajām, seksuālajām un citām minoritātē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7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dezadaptētu klientu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1.8 </a:t>
            </a:r>
            <a:r>
              <a:rPr b="0" lang="lv-LV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s ar agresīvu klientu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6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2 Darba metode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2.1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Motivējošā intervēšana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2.2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Krīzes intervence – īsterapija vērsta uz atrisinājumu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3 Prasmju pilnveidošana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3.1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Pārstāvības process tiesā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3.2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Laika plānošana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3.3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Pašpalīdzība, stresa un konflikta vadība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3.4</a:t>
            </a:r>
            <a:r>
              <a:rPr b="0" lang="lv-LV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Grupu vadības pamati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8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 Probācijas programma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1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“Emociju menedžments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2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“Cieņpilnu attiecību veidošana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3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Vielu lietošanas menedžments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4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darbam ar dzimumnoziedzniekiem (brīvības atņemšanas ietādē)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5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Motivācija izmaiņām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6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EQUIP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7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Vienkārši par sarežģīto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.8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ma „Dzīves skola 2”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0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57200" y="907920"/>
          <a:ext cx="8240760" cy="5218200"/>
        </p:xfrm>
        <a:graphic>
          <a:graphicData uri="http://schemas.openxmlformats.org/drawingml/2006/table">
            <a:tbl>
              <a:tblPr/>
              <a:tblGrid>
                <a:gridCol w="1830240"/>
                <a:gridCol w="920880"/>
                <a:gridCol w="1830240"/>
                <a:gridCol w="1828800"/>
                <a:gridCol w="1830600"/>
              </a:tblGrid>
              <a:tr h="6177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egūstamā kvalifikācij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uļu kombinācij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ezīm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moduli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 moduļ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moduļ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Piespiedu un sabiedriskā darba izpildes organizators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1 (PD+SD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.4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.1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176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Izlīguma veicēj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2 (IZL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.4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180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Izvērtēšanas ziņojumu sagatavotāj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4 (IZ)+B3 (RVN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.4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.1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188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Uzraudzības īstenotāj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5 (UZR)+B3 (RVN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.1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212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1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Probācijas programmu īstenotāj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6 (PP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.4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vismaz vienu kursu no C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gūstama pēc uzraudzības īstenotāja kvalifikācijas iegūšana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Times New Roman"/>
                        </a:rPr>
                        <a:t>Kopā 142 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 modulis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-  apgūst visi jaunpieņemtie darbinieki ne ilgāk kā divu mēnešu laikā no darba uzsākšanas datuma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 modulis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-  apgūst darbinieki, kuri sekmīgi nokārtojuši A moduļa mācību priekšmetu pārbaudījumus un saskaņā ar veicamo funkciju, ne vēlāk kā divu mēnešu laikā pēc A moduļa mācību priekšmetu apgūšana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Mācību priekšmets </a:t>
            </a: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6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(„Probācijas programmu īstenošana”) apgūstams pēc B5 mācību priekšmeta („Uzraudzības īstenošana”) pārbaudījuma sekmīgas nokārtošanas un ne ātrāk kā pēc sešiem mēnešiem no darba uzsākšanas datuma.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C modulis</a:t>
            </a:r>
            <a:r>
              <a:rPr b="1" lang="en-US" sz="2400" spc="-1" strike="noStrike" u="sng">
                <a:solidFill>
                  <a:srgbClr val="06114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- mācību priekšmeti, kas nav noteikti kā obligātie iepriekšminētajā tabulā, apgūstami saskaņā ar tiešā vadītāja pieteikumu bez laika ierobežojumie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4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aldies par uzmanību! 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6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sts probācijas dienesta mis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Rūpēties par sabiedrības drošību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114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anākt noturīgas izmaiņas likumpārkāpēju dzīvēs, lai viņi vairs neizdara noziegumu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6114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asargāt iespējamos upurus, ja paaugstinās nozieguma izdarīšanas risk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6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ā to panāk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Nodrošinot Valsts probācijas dienesta likumā noteikto funkciju </a:t>
            </a:r>
            <a:r>
              <a:rPr b="1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kvalitatīvu</a:t>
            </a: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izpildi - kvalitatīvi veicot  uzticēto darbu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9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nozīmē kvalitatīva izpil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Darbinieks strādā profesionāli!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Spēj nodrošināt savā darbā gan teorētisko 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(zināšanas), gan praktisko (prasmes) pieeju.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2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rofesionāls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inieks ir </a:t>
            </a:r>
            <a:r>
              <a:rPr b="0" lang="en-US" sz="2800" spc="-1" strike="noStrike" u="sng">
                <a:solidFill>
                  <a:srgbClr val="061140"/>
                </a:solidFill>
                <a:uFillTx/>
                <a:latin typeface="Times New Roman"/>
                <a:ea typeface="Times New Roman"/>
              </a:rPr>
              <a:t>kvalitatīvi sagatavots un apmācīts darbam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, ņemot vērā: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estādes darba specifiku,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dažādas mērķa grupas (klientu kategorijas),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nepieciešamās zināšanas un prasmes katras funkcijas ietvaros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un </a:t>
            </a:r>
            <a:r>
              <a:rPr b="0" lang="en-US" sz="2800" spc="-1" strike="noStrike" u="sng">
                <a:solidFill>
                  <a:srgbClr val="061140"/>
                </a:solidFill>
                <a:uFillTx/>
                <a:latin typeface="Times New Roman"/>
                <a:ea typeface="Times New Roman"/>
              </a:rPr>
              <a:t>spēj iegūtās zināšanas un prasmes pielietot </a:t>
            </a:r>
            <a:r>
              <a:rPr b="1" lang="en-US" sz="2800" spc="-1" strike="noStrike" u="sng">
                <a:solidFill>
                  <a:srgbClr val="061140"/>
                </a:solidFill>
                <a:uFillTx/>
                <a:latin typeface="Times New Roman"/>
                <a:ea typeface="Times New Roman"/>
              </a:rPr>
              <a:t>praksē</a:t>
            </a: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ilnveidojot</a:t>
            </a: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pieredzi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4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ācību programmas mērķ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zglītības procesa rezultātā sagatavot kvalificētu probācijas darba speciālistu Valsts probācijas dienesta funkciju īstenošanai.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7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ācību programmas uzdevum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Veidot izpratni par probācijas sistēmas izveidošanos un attīstību, probācijas lomu Latvijas kriminālsodu sistēmā un probācijas darbinieka vispārējo kompetenci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Sniegt zināšanas un attīstīt prasmes Valsts probācijas dienesta funkciju izpildes nodrošināšanā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ilnveidot profesionālo kompetenci, paaugstinot kvalifikāciju Valsts probācijas dienesta funkciju izpildes nodrošināšanā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Sagatavot darbinieku teorētisko zināšanu pielietošanai praksē.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0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Mācību programma tiek veidota pēc moduļu sistēmas, kas sastāv no: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 moduļa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1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Valsts probācijas dienesta darbība, misija, loma un vieta krimināltiesiskajā sistēm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2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Uz pierādījumiem balstīta pieeja darbā ar likumpārkāpēju krimināltiesiskajā sistēm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3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Darbinieka tiesības, pienākumi un profesionālā ētika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4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Uz klientu orientēta saskarsme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5 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Darba drošība darbā ar probācijas klientu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6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Datu sistēmu izmantošana darb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A7</a:t>
            </a:r>
            <a:r>
              <a:rPr b="0" lang="en-US" sz="24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 Lietvedība 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2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</a:t>
            </a:r>
            <a:r>
              <a:rPr b="0" lang="en-US" sz="36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 moduļa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1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Kriminālsoda – piespiedu darbs un audzinoša rakstura piespiedu līdzekļa – sabiedriskais darbs – izpildes organizē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2 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zlīguma īsteno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3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Riska un vajadzību novērtēšana (pieaugušajiem)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4 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Izvērtēšanas ziņojuma sagatavo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5 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Uzraudzības īsteno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611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B6  </a:t>
            </a:r>
            <a:r>
              <a:rPr b="0" lang="en-US" sz="2800" spc="-1" strike="noStrike">
                <a:solidFill>
                  <a:srgbClr val="061140"/>
                </a:solidFill>
                <a:latin typeface="Times New Roman"/>
                <a:ea typeface="Times New Roman"/>
              </a:rPr>
              <a:t>Probācijas programmu īsteno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4" name="Picture 7" descr="Norway_grants_logo2.jpg"/>
          <p:cNvPicPr/>
          <p:nvPr/>
        </p:nvPicPr>
        <p:blipFill>
          <a:blip r:embed="rId1"/>
          <a:stretch/>
        </p:blipFill>
        <p:spPr>
          <a:xfrm>
            <a:off x="7215120" y="0"/>
            <a:ext cx="1387440" cy="85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8:11:22Z</dcterms:created>
  <dc:creator>Kristaps</dc:creator>
  <dc:description/>
  <dc:language>en-US</dc:language>
  <cp:lastModifiedBy>Irina.Purite</cp:lastModifiedBy>
  <dcterms:modified xsi:type="dcterms:W3CDTF">2010-12-13T12:59:02Z</dcterms:modified>
  <cp:revision>76</cp:revision>
  <dc:subject/>
  <dc:title>Slide 1</dc:title>
</cp:coreProperties>
</file>