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9.wmf" ContentType="image/x-wmf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1384200" y="685440"/>
            <a:ext cx="40896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8907-5224-49EE-BF55-FA01C581906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5B3E-1FE1-443A-AEA5-08B749528660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84200" y="685800"/>
            <a:ext cx="40896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Ne tik daudz bsc mums svarīgs, paņemam rādītāju apkopošanas praksi, definēšanas piee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86B0-8B54-4EBA-94BB-38B3726E2FB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DF4-EED4-4107-B71F-5984A11E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581-F1A7-4CE1-8531-671DF7F1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446-4CA4-4B30-8E5D-2CC41431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025-1DDA-478F-9136-85A79DEA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8AFD-1208-4076-97F6-4CE4AC83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01C9-BD10-4525-9526-05F7F958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FEF1-3AF5-4F7E-AB47-DB834E81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616F-83C5-4497-97BB-50A98478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394B-FD95-4D9A-85C0-0573615F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4BE5-4D67-4809-A401-CB07B577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BEFB-67F2-40CC-A4B4-CC9D7B9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717-4907-49B3-90C9-7D37B05F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558-3158-41C3-8669-18DA1E5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BDF-79BD-428A-A38E-75340A77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D480-91E2-43AF-979D-77550A9E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60D7-FD39-40E8-9EF7-5E227509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220E-65EB-4292-AAF2-EC50A5F0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5DB8-D939-4DB1-8362-7BDEC15B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DA59-C3D7-4136-9C85-71E9E58A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3FCD-B81E-4EDD-A88C-6EBE561F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1270-0CD9-458F-97A0-5E868625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B5FA-F9DE-4B0B-8D5C-0DD565D2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989-78F3-4565-B2EE-9BC9A25F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C14A-DA12-4ABB-B9A4-6A07C78C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7DA5-17CF-4ECE-AC59-9280D1B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CD19-7A08-4A94-97B7-F9E07E6F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4E7CF-7CB0-422E-9FF5-E5242B5C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892A-2AD5-4131-9922-A7DB44D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0566-7FE9-48A7-A8B2-CBA14936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99E15-F30D-4F26-A836-26AFA6B4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E398-E332-46B1-A8F5-BD6E9E32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FCD4-64E9-4C47-AC03-C803AD9A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C132-DD62-443E-8861-598BAB80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813-3B20-471B-A66B-AFC050AA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C0CB-CD96-40CE-9429-785B6BCF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45E38-C872-4C2E-8063-94C4988D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5E03-5613-445F-ADAF-C11B99A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A039-7462-4857-9098-58F1B1D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08DD5-052B-49C6-8207-ED22C98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AF69-BD4B-4EBA-B77B-291E1F5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3EAC-D4C9-471B-A52C-EBB01B00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92E5-3AE5-4238-A3C2-00031B44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16E1-6F1F-49E3-A28B-919F5908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22A-B85E-4726-A03D-81A366EA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B06-591E-4323-8536-E8591BD3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504-B767-49A6-9366-175D484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98D-8A3B-4253-8574-9CBDFDE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AD7-BAE4-40D4-AA25-4A7DA4F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8D94-DE07-42BA-A6BA-674C9D2AA8E8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093D-6706-4636-A996-EE9B951358A8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D761-3C83-4859-B80B-B0CE780F47FF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2" descr="svitra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peleks tikai E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svitra2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zils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Norway_grants_logo2.jpg"/>
          <p:cNvPicPr/>
          <p:nvPr/>
        </p:nvPicPr>
        <p:blipFill>
          <a:blip r:embed="rId6"/>
          <a:stretch/>
        </p:blipFill>
        <p:spPr>
          <a:xfrm>
            <a:off x="6948360" y="17640"/>
            <a:ext cx="1387440" cy="85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Norway_grants_logo2.jpg"/>
          <p:cNvPicPr/>
          <p:nvPr/>
        </p:nvPicPr>
        <p:blipFill>
          <a:blip r:embed="rId7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5D42-1DBC-4D9A-8F3E-5A86B58C75CC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920" y="4092120"/>
            <a:ext cx="6858000" cy="21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ZULTATĪVO RĀDĪTĀJU SISTĒMAS UN DATU ANALĪZES </a:t>
            </a:r>
            <a:r>
              <a:rPr b="1" lang="lv-LV" sz="2700" spc="-1" strike="noStrike">
                <a:solidFill>
                  <a:srgbClr val="000000"/>
                </a:solidFill>
                <a:latin typeface="Calibri"/>
              </a:rPr>
              <a:t>PRAKSE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IZPĒTE IESLODZĪJUMA VIETU PĀRVALDĒ UN VALSTS PROBĀCIJAS DIENESTĀ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115640" y="6416280"/>
            <a:ext cx="4032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Veronika Linkum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vars Solovjovs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	</a:t>
            </a:r>
            <a:r>
              <a:rPr b="0" lang="lt-LT" sz="2400" spc="-1" strike="noStrike">
                <a:solidFill>
                  <a:srgbClr val="06114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254640" y="6697800"/>
            <a:ext cx="2664000" cy="826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2800"/>
            </a:b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”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 (turp.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s rādītāju iegūšanas, apkopošanas un analīzes process (katrai iestādei atsevišķi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i priekšlikumi secīgai rādītāju sistēmas ieviešanai abās iestādēs pēc pētījuma beig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1520" y="2406600"/>
            <a:ext cx="387828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57200" y="278280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983960"/>
            <a:ext cx="556884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39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48E-8962-4DF6-8128-E47DD549B03B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413F-7C02-4AC7-AD95-2F99003BA5A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sistēma - informācijas, procesu un IS kopums, kas nodrošina organizācijas vadībai iespēju sekot līdzi iestādes darbības dažādiem aspektiem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Galvenās komponentes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Rādītāju kopa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- raksturo iestādes darbību un ietekme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rocesi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 - nodrošina informācijas apkopošanu un analīz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Pienākumi un atbildība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kas par ko atbild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61140"/>
                </a:solidFill>
                <a:latin typeface="Calibri"/>
              </a:rPr>
              <a:t>IT atbalsts </a:t>
            </a: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– informācijas sistēmas kas nodrošina rādītāju apkopošanu un analīzi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41A-32E1-4C47-B1AD-9C1023D5079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2A9B-F8F4-4AAF-AEC3-7FCCD3D0F9C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106720"/>
            <a:ext cx="4906800" cy="51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s (indikators, metrika) – objekta raksturojums, kas kvantitatīvi raksturo tā īpašības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manto, l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Definētu mērāmus mērķu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vērtētu mērķu sasniegšanu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savstarpējo salīdzināšanu starp dažādiem objektiem (</a:t>
            </a:r>
            <a:r>
              <a:rPr b="0" i="1" lang="lv-LV" sz="2400" spc="-1" strike="noStrike">
                <a:solidFill>
                  <a:srgbClr val="061140"/>
                </a:solidFill>
                <a:latin typeface="Calibri"/>
              </a:rPr>
              <a:t>benchmarking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eiktu ietekmes (cēloņsakarības) analīzi starp dažādiem faktor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8C3A-354C-4F65-AC53-20ED1B42936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7B5-192A-46A1-AE81-BA9CD40DC15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5076720" y="2647800"/>
            <a:ext cx="40467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raksturo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Nosaukums/aprakst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Rādītāja izmantošana mērķis (pamatojums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Mērīšana nav pašmērķis – tai ir kaut kāda jēga/ieguvums, kas samērojams ar mērīšanas izmaksām!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Skalārs vai konsolidēts rādītāj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Ja konsolidēts, tad svarīgi ir konsolidācijas algoritms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vienība (skaits, procenti u.c.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intervāl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īšanas metode, datu avoti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Mērķa vērtības  un vērtību koridori uz laika as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Faktiskās vērtības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6BC3-670C-4745-9CD3-F2F7743ECB5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DB3-E55C-456C-8EBD-869BA5BB2064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5C81-AB56-49CD-BC9E-A1606EB5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Balanced Scorecard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147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61140"/>
                </a:solidFill>
                <a:latin typeface="Calibri"/>
              </a:rPr>
              <a:t>Balanced ScoreCard (BSC)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ir organizācijas stratēģiskās vadības sistēma, kas balstās uz organizācijas hierarhisku darbības rādītāju noteikšanu un mērīšan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Autori - Robert S. Kaplan un David Norton (1992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BSC ir šobrīd viena no populārākajām stratēģijas īstenošanas un darbības efektivitātes vadības metodē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58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2466-118C-45A8-A6A5-C09C9BA93EEA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standarta dimensij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C2DE-DF75-4CBC-8C64-685E5212DA6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C2DE-76C3-4F5C-9CC7-94D3303F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2"/>
          <p:cNvGraphicFramePr/>
          <p:nvPr/>
        </p:nvGraphicFramePr>
        <p:xfrm>
          <a:off x="1042920" y="2041560"/>
          <a:ext cx="68724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41560"/>
                    <a:ext cx="68724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BSC kritika un alternatīva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995280" y="2251080"/>
            <a:ext cx="4824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 visur un vienmēr BSC standarta 4 dimensijas ir būtisk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etiek šķiroti darbības un iznākuma rādītāji (īpaši būtiski publiskajā sektorā)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Bieži tiek veidotas rādītāju kartes ar citu grupējumu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Publiskajā sektorā izmantojams BSC principu «krustojums» ar programmu loģisko model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A89B-B784-47CC-995B-CD8ADEEB616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CEE5-D12F-4F4D-9441-015E3AEEB6E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tretch/>
        </p:blipFill>
        <p:spPr>
          <a:xfrm>
            <a:off x="33480" y="2374920"/>
            <a:ext cx="396216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968400" y="3591000"/>
            <a:ext cx="5786280" cy="16779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Loģiskais modelis un rādītāj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ate Placeholder 2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6007-7DC3-4730-BDE0-6CF846D3D5B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27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9466-B014-47B1-BE97-4A10708A460D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254240" y="3830760"/>
            <a:ext cx="157140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Resu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18276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 (proce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5111640" y="3830760"/>
            <a:ext cx="1571760" cy="798480"/>
          </a:xfrm>
          <a:prstGeom prst="rect">
            <a:avLst/>
          </a:prstGeom>
          <a:solidFill>
            <a:srgbClr val="8ac6cd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Darbības rezultā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040520" y="2220840"/>
            <a:ext cx="1571760" cy="240840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i (iznāku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8"/>
          <p:cNvSpPr/>
          <p:nvPr/>
        </p:nvSpPr>
        <p:spPr>
          <a:xfrm>
            <a:off x="2897280" y="4070520"/>
            <a:ext cx="214200" cy="32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9"/>
          <p:cNvSpPr/>
          <p:nvPr/>
        </p:nvSpPr>
        <p:spPr>
          <a:xfrm>
            <a:off x="4826160" y="4122720"/>
            <a:ext cx="21420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ight Arrow 10"/>
          <p:cNvSpPr/>
          <p:nvPr/>
        </p:nvSpPr>
        <p:spPr>
          <a:xfrm>
            <a:off x="6754680" y="4113360"/>
            <a:ext cx="214560" cy="318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597a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1673280" y="3192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5403240" y="31924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7252920" y="17589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3473280" y="31924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4597a0"/>
                </a:solidFill>
                <a:latin typeface="Calibri"/>
                <a:ea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1182960" y="478944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Organizācijas kontrol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71680" y="5748480"/>
            <a:ext cx="21747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sursu (inputs)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ersonāla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iliāļ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2857680" y="5748480"/>
            <a:ext cx="20001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ces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a sagatavošanas ilg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4929120" y="5748480"/>
            <a:ext cx="200016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izlīgum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espiedu darbu klientu sk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9"/>
          <p:cNvSpPr/>
          <p:nvPr/>
        </p:nvSpPr>
        <p:spPr>
          <a:xfrm>
            <a:off x="7000920" y="5578560"/>
            <a:ext cx="16621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zraudzībā esošo klientu atkārtoto noziegumu sk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Atkārtoto noziegumu īpatsv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U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182520" y="2324160"/>
            <a:ext cx="1571760" cy="798480"/>
          </a:xfrm>
          <a:prstGeom prst="rect">
            <a:avLst/>
          </a:prstGeom>
          <a:solidFill>
            <a:srgbClr val="a3a3e0"/>
          </a:solidFill>
          <a:ln w="25560">
            <a:solidFill>
              <a:srgbClr val="4597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biedrības vajadz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Curved Connector 37"/>
          <p:cNvCxnSpPr>
            <a:stCxn id="274" idx="2"/>
            <a:endCxn id="275" idx="2"/>
          </p:cNvCxnSpPr>
          <p:nvPr/>
        </p:nvCxnSpPr>
        <p:spPr>
          <a:xfrm flipH="1" rot="16200000">
            <a:off x="4931280" y="3665160"/>
            <a:ext cx="3960" cy="1931400"/>
          </a:xfrm>
          <a:prstGeom prst="curvedConnector5">
            <a:avLst>
              <a:gd name="adj1" fmla="val 18660000"/>
              <a:gd name="adj2" fmla="val 50000"/>
              <a:gd name="adj3" fmla="val 18660000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291" name="Curved Connector 41"/>
          <p:cNvCxnSpPr/>
          <p:nvPr/>
        </p:nvCxnSpPr>
        <p:spPr>
          <a:xfrm flipH="1" rot="16200000">
            <a:off x="6931440" y="3585960"/>
            <a:ext cx="2520" cy="1929240"/>
          </a:xfrm>
          <a:prstGeom prst="curvedConnector5">
            <a:avLst>
              <a:gd name="adj1" fmla="val 35066666"/>
              <a:gd name="adj2" fmla="val 50000"/>
              <a:gd name="adj3" fmla="val 35066666"/>
            </a:avLst>
          </a:prstGeom>
          <a:ln w="38160">
            <a:solidFill>
              <a:srgbClr val="19194d"/>
            </a:solidFill>
            <a:miter/>
            <a:tailEnd len="med" type="arrow" w="med"/>
          </a:ln>
        </p:spPr>
      </p:cxnSp>
      <p:sp>
        <p:nvSpPr>
          <p:cNvPr id="292" name="TextBox 42"/>
          <p:cNvSpPr/>
          <p:nvPr/>
        </p:nvSpPr>
        <p:spPr>
          <a:xfrm>
            <a:off x="4061880" y="527544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roduktivitāte (efficienc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6363720" y="527544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Lietderīgums (efectiven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5"/>
          <p:cNvCxnSpPr>
            <a:stCxn id="289" idx="3"/>
          </p:cNvCxnSpPr>
          <p:nvPr/>
        </p:nvCxnSpPr>
        <p:spPr>
          <a:xfrm>
            <a:off x="1754280" y="2722320"/>
            <a:ext cx="5286960" cy="1080"/>
          </a:xfrm>
          <a:prstGeom prst="straightConnector1">
            <a:avLst/>
          </a:prstGeom>
          <a:ln w="28440">
            <a:solidFill>
              <a:srgbClr val="42557f"/>
            </a:solidFill>
            <a:prstDash val="dash"/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3836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Projekta jomas loģiskā modeļa shēm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D3DA-14EE-40F5-977F-07180C627DB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89040" y="1695600"/>
            <a:ext cx="2354040" cy="176508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V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689040" y="4648320"/>
            <a:ext cx="2354040" cy="1763640"/>
          </a:xfrm>
          <a:prstGeom prst="rect">
            <a:avLst/>
          </a:prstGeom>
          <a:solidFill>
            <a:srgbClr val="ced6e6"/>
          </a:solidFill>
          <a:ln w="12600">
            <a:solidFill>
              <a:srgbClr val="4d7bcf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  <a:ea typeface="Calibri"/>
              </a:rPr>
              <a:t>Ie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xagon 12"/>
          <p:cNvSpPr/>
          <p:nvPr/>
        </p:nvSpPr>
        <p:spPr>
          <a:xfrm>
            <a:off x="2511360" y="1876320"/>
            <a:ext cx="1397160" cy="6876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Hexagon 13"/>
          <p:cNvSpPr/>
          <p:nvPr/>
        </p:nvSpPr>
        <p:spPr>
          <a:xfrm>
            <a:off x="2511360" y="2660760"/>
            <a:ext cx="1397160" cy="68724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xagon 15"/>
          <p:cNvSpPr/>
          <p:nvPr/>
        </p:nvSpPr>
        <p:spPr>
          <a:xfrm>
            <a:off x="2625840" y="4848120"/>
            <a:ext cx="1396800" cy="68760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Hexagon 16"/>
          <p:cNvSpPr/>
          <p:nvPr/>
        </p:nvSpPr>
        <p:spPr>
          <a:xfrm>
            <a:off x="2625840" y="5632560"/>
            <a:ext cx="1396800" cy="6872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6e84b4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alibri"/>
              </a:rPr>
              <a:t>Darbīb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4533840" y="240984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4533840" y="345276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4533840" y="4336920"/>
            <a:ext cx="1603440" cy="5968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/>
          <p:cNvSpPr/>
          <p:nvPr/>
        </p:nvSpPr>
        <p:spPr>
          <a:xfrm>
            <a:off x="4533840" y="5381640"/>
            <a:ext cx="1603440" cy="5954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6588000" y="3362400"/>
            <a:ext cx="1603440" cy="59508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6683400" y="4500720"/>
            <a:ext cx="1603440" cy="593640"/>
          </a:xfrm>
          <a:prstGeom prst="ellipse">
            <a:avLst/>
          </a:prstGeom>
          <a:solidFill>
            <a:srgbClr val="dfe3ee"/>
          </a:solidFill>
          <a:ln w="12600">
            <a:solidFill>
              <a:srgbClr val="6e84b4"/>
            </a:solidFill>
            <a:miter/>
          </a:ln>
          <a:effectLst>
            <a:outerShdw dist="2484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olitikas rezultā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5"/>
          <p:cNvCxnSpPr>
            <a:stCxn id="299" idx="2"/>
          </p:cNvCxnSpPr>
          <p:nvPr/>
        </p:nvCxnSpPr>
        <p:spPr>
          <a:xfrm>
            <a:off x="3908160" y="2220840"/>
            <a:ext cx="626040" cy="357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0" name="Straight Arrow Connector 26"/>
          <p:cNvCxnSpPr/>
          <p:nvPr/>
        </p:nvCxnSpPr>
        <p:spPr>
          <a:xfrm flipV="1">
            <a:off x="3908160" y="2830320"/>
            <a:ext cx="626040" cy="1958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1" name="Straight Arrow Connector 28"/>
          <p:cNvCxnSpPr>
            <a:stCxn id="300" idx="2"/>
            <a:endCxn id="304" idx="2"/>
          </p:cNvCxnSpPr>
          <p:nvPr/>
        </p:nvCxnSpPr>
        <p:spPr>
          <a:xfrm>
            <a:off x="3908160" y="3003120"/>
            <a:ext cx="626040" cy="7484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2" name="Straight Arrow Connector 31"/>
          <p:cNvCxnSpPr/>
          <p:nvPr/>
        </p:nvCxnSpPr>
        <p:spPr>
          <a:xfrm flipV="1">
            <a:off x="4022640" y="2927160"/>
            <a:ext cx="511920" cy="22356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3" name="Straight Arrow Connector 33"/>
          <p:cNvCxnSpPr/>
          <p:nvPr/>
        </p:nvCxnSpPr>
        <p:spPr>
          <a:xfrm flipV="1">
            <a:off x="4022280" y="3956760"/>
            <a:ext cx="640440" cy="12056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4" name="Straight Arrow Connector 38"/>
          <p:cNvCxnSpPr>
            <a:endCxn id="306" idx="2"/>
          </p:cNvCxnSpPr>
          <p:nvPr/>
        </p:nvCxnSpPr>
        <p:spPr>
          <a:xfrm flipV="1">
            <a:off x="3959280" y="5677920"/>
            <a:ext cx="5752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5" name="Straight Arrow Connector 40"/>
          <p:cNvCxnSpPr/>
          <p:nvPr/>
        </p:nvCxnSpPr>
        <p:spPr>
          <a:xfrm flipV="1">
            <a:off x="4022280" y="4737960"/>
            <a:ext cx="577080" cy="454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316" name="Straight Arrow Connector 42"/>
          <p:cNvCxnSpPr>
            <a:stCxn id="303" idx="6"/>
          </p:cNvCxnSpPr>
          <p:nvPr/>
        </p:nvCxnSpPr>
        <p:spPr>
          <a:xfrm>
            <a:off x="6136920" y="2706840"/>
            <a:ext cx="564120" cy="75456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7" name="Straight Arrow Connector 43"/>
          <p:cNvCxnSpPr>
            <a:endCxn id="307" idx="2"/>
          </p:cNvCxnSpPr>
          <p:nvPr/>
        </p:nvCxnSpPr>
        <p:spPr>
          <a:xfrm flipV="1">
            <a:off x="6119280" y="3658680"/>
            <a:ext cx="469080" cy="1087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8" name="Straight Arrow Connector 45"/>
          <p:cNvCxnSpPr>
            <a:endCxn id="308" idx="2"/>
          </p:cNvCxnSpPr>
          <p:nvPr/>
        </p:nvCxnSpPr>
        <p:spPr>
          <a:xfrm>
            <a:off x="6119640" y="4635000"/>
            <a:ext cx="564480" cy="16452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cxnSp>
        <p:nvCxnSpPr>
          <p:cNvPr id="319" name="Straight Arrow Connector 47"/>
          <p:cNvCxnSpPr/>
          <p:nvPr/>
        </p:nvCxnSpPr>
        <p:spPr>
          <a:xfrm flipV="1">
            <a:off x="6072120" y="4965480"/>
            <a:ext cx="629280" cy="721440"/>
          </a:xfrm>
          <a:prstGeom prst="straightConnector1">
            <a:avLst/>
          </a:prstGeom>
          <a:ln w="25560">
            <a:solidFill>
              <a:srgbClr val="6e84b4"/>
            </a:solidFill>
            <a:miter/>
            <a:tailEnd len="med" type="triangle" w="med"/>
          </a:ln>
        </p:spPr>
      </p:cxnSp>
      <p:sp>
        <p:nvSpPr>
          <p:cNvPr id="320" name="TextBox 49"/>
          <p:cNvSpPr/>
          <p:nvPr/>
        </p:nvSpPr>
        <p:spPr>
          <a:xfrm>
            <a:off x="687240" y="403848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Iestāžu 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51"/>
          <p:cNvSpPr/>
          <p:nvPr/>
        </p:nvSpPr>
        <p:spPr>
          <a:xfrm flipH="1" flipV="1">
            <a:off x="1114560" y="4559400"/>
            <a:ext cx="28872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2"/>
          <p:cNvSpPr/>
          <p:nvPr/>
        </p:nvSpPr>
        <p:spPr>
          <a:xfrm flipV="1">
            <a:off x="1114560" y="3083040"/>
            <a:ext cx="1998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7"/>
          <p:cNvSpPr/>
          <p:nvPr/>
        </p:nvSpPr>
        <p:spPr>
          <a:xfrm>
            <a:off x="2511360" y="3657600"/>
            <a:ext cx="11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Darbīb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ezultā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8"/>
          <p:cNvSpPr/>
          <p:nvPr/>
        </p:nvSpPr>
        <p:spPr>
          <a:xfrm flipV="1">
            <a:off x="2925720" y="3290760"/>
            <a:ext cx="284040" cy="48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0"/>
          <p:cNvSpPr/>
          <p:nvPr/>
        </p:nvSpPr>
        <p:spPr>
          <a:xfrm flipH="1" flipV="1">
            <a:off x="3102120" y="4395600"/>
            <a:ext cx="23472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2"/>
          <p:cNvSpPr/>
          <p:nvPr/>
        </p:nvSpPr>
        <p:spPr>
          <a:xfrm>
            <a:off x="4317840" y="6402240"/>
            <a:ext cx="22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Calibri"/>
              </a:rPr>
              <a:t>Politikas rezultātu rādītā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Date Placeholder 3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1C2F-9B73-4BE3-AA8E-C537DBDC285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rezentācijas mērķ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24080"/>
            <a:ext cx="461952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Sniegt pārskatu par pētījuma rezultātiem un galvenajām atziņā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ēt par rādītāju noteikšanas un izmantošanas pieej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0AF7-5B26-4E90-8D41-7D00A6222101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A219-731E-467E-B7BC-EDA3D9F4FC1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5076720" y="2251080"/>
            <a:ext cx="40449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667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Daļa no nozares kopējās stratēģija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3157-C254-4399-B3FB-38BF1D0DA77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177840" y="1922400"/>
            <a:ext cx="8194680" cy="4934160"/>
          </a:xfrm>
          <a:prstGeom prst="rect">
            <a:avLst/>
          </a:prstGeom>
          <a:ln w="0">
            <a:noFill/>
          </a:ln>
        </p:spPr>
      </p:pic>
      <p:sp>
        <p:nvSpPr>
          <p:cNvPr id="331" name="Rounded Rectangle 5"/>
          <p:cNvSpPr/>
          <p:nvPr/>
        </p:nvSpPr>
        <p:spPr>
          <a:xfrm>
            <a:off x="851040" y="1922400"/>
            <a:ext cx="2412720" cy="5349960"/>
          </a:xfrm>
          <a:custGeom>
            <a:avLst/>
            <a:gdLst>
              <a:gd name="textAreaLeft" fmla="*/ 117720 w 2412720"/>
              <a:gd name="textAreaRight" fmla="*/ 2295000 w 2412720"/>
              <a:gd name="textAreaTop" fmla="*/ 117720 h 5349960"/>
              <a:gd name="textAreaBottom" fmla="*/ 5232240 h 5349960"/>
            </a:gdLst>
            <a:ahLst/>
            <a:rect l="textAreaLeft" t="textAreaTop" r="textAreaRight" b="textAreaBottom"/>
            <a:pathLst>
              <a:path w="21600" h="47892">
                <a:moveTo>
                  <a:pt x="3600" y="0"/>
                </a:moveTo>
                <a:arcTo wR="3600" hR="3600" stAng="16200000" swAng="-5400000"/>
                <a:lnTo>
                  <a:pt x="0" y="44292"/>
                </a:lnTo>
                <a:arcTo wR="3600" hR="3600" stAng="10800000" swAng="-5400000"/>
                <a:lnTo>
                  <a:pt x="18000" y="47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6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044-CB69-4A81-B630-5C7E95FB2E8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457200" y="371952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057040"/>
            <a:ext cx="592128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3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230B-8886-444E-82CC-4CA83AA5B2E1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1C57-5E94-4B86-A27E-1D5D5F32927F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asaiste ar politikas rezultātiem/mērķiem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av precizēta un aktualizēta nozares stratēģija (loģiskais modelis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Nozares stratēģiska virziena trūkums apgrūtina iestāžu stratēģisko virzienu plānošanu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o politikas mērķu sasniegšana ir atkarīga no vairāku iestāžu darba rezultātiem, taču šobrīd šī saistība nav skaidri definēt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ēram, politikas virsmērķi “Samazināta noziedzīgu nodarījumu izdarīšana”  var ietekmēt gan VPD, gan IeVP, gan Valsts un Pašvaldību policija.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PD un IeVP darba apjomu lielā mērā ietekmē Kriminālsoda politikas piemērošana un izpilde (piespriestie sodi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Iestādēs nespēj tieši ietekmēt  savu klientu daudzumu un līdz ar to precīzi plānot savu darbu nākotnē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notiek sistemātiska politikas rezultātu rādītāju apkopšana valsts mērogā, salīdzinā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Netiek veikta darbības ietekmes izvērtēšana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134B-110A-478B-9F74-0B91D639F32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ādītāju sistēma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Vienotas rādītāju sistēmas trūkums, kas neļauj vērtēt iestādes darbību kopumā, kā arī katras funkcijas dabu atseviš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ie rādītāji </a:t>
            </a:r>
            <a:r>
              <a:rPr b="0" lang="lv-LV" sz="2200" spc="-1" strike="noStrike" u="sng">
                <a:solidFill>
                  <a:srgbClr val="061140"/>
                </a:solidFill>
                <a:uFillTx/>
                <a:latin typeface="Calibri"/>
              </a:rPr>
              <a:t>lielākoties</a:t>
            </a: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 tiek vākti statistikas vajadzībām, nevis darbības rezultātu vērtēšanai: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ie rādītāji norāda uz padarīto darba apjomu (piem., klientu skaits, kuriem piespriests piespiedu darbs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esošajos rādītājos trūkst fokusa uz kvalitātes un efektivitātes vērtēšanu (piem., izlīgumu īpatsvars, kuros tika panākts izlīgums) 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ā rādītāju sistēmā ir grūti izsekot rādītāju saistībai ar iestādes konkrēto mērķi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Padziļinātas finanšu analīzes trūkums (piem., probācijas klienta apkalpošanas pašizmaksa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61140"/>
                </a:solidFill>
                <a:latin typeface="Calibri"/>
              </a:rPr>
              <a:t>Esošajiem rādītājiem nav definētas vēlamās sasniedzamās vērtības (ko vēlamies sasniegt nākotnē)</a:t>
            </a: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3579-E719-4398-92E0-8912B9A2F126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17B4-D126-471B-8D66-4F88AFBA4E91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Iekšējie proces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Vienota un regulāri organizēta procesa trūkums rādītāju apkopošanā un analīzē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ieviesta ikgadējas rādītāju plānošanas un vēlāk rezultātu analīzes “tradīcija” 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rādītāju vērtēšana drīzāk notiek pret iepriekšējā periodā paveikto darbu.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61140"/>
                </a:solidFill>
                <a:latin typeface="Calibri"/>
              </a:rPr>
              <a:t>Rādītāju apkopošanā nav vienotas vietnes datu uzkrāšanai, tā vietā tiek izmantots liels atskaišu daudzums:</a:t>
            </a:r>
            <a:endParaRPr b="0" lang="en-US" sz="3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katrai funkcijai ir atsevišķas atskaišu formas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61140"/>
                </a:solidFill>
                <a:latin typeface="Calibri"/>
              </a:rPr>
              <a:t>nav vienotas sistēmas, kur visi dati tiek uzkrāti</a:t>
            </a:r>
            <a:endParaRPr b="0" lang="en-US" sz="26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21B-F58C-44B6-987E-883920A18427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FE51-EA6C-4784-A8E6-8ED726FF7F6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Starpiestāžu sadarbīb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2034720"/>
            <a:ext cx="81471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Piekļuves trūkums ārējām IS nedod iespēju apkopot iestādei svarīgus rādītājus (piem., recidīva rādītājus)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nformācijas apmaiņas trūkums starp iestādēm neļauj pilnvērtīgi analizēt iestādes klienta profilu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zsekot klienta sodāmības vēstur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ērtēt iestādes darbības ietekmi uz klientu pēc darbu pabeigšanas ar klientu.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E1DB-0BD1-4EA0-B0B9-855E1F682A45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257-08C2-4EF8-905A-528EFC684C06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57200" y="4583160"/>
            <a:ext cx="6985080" cy="61920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57040"/>
            <a:ext cx="61038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293955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5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34DE-624E-46A6-B732-014292C3B2F5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DF1-3C80-465D-8905-63E8F500092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zares stratēģijas/mērķu precizēšana, iesaistot visas iestādes (Tiesas, Policija, Prokuratūra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estāžu rādītāju saraksta precizēšana atbilstoši definētiem mērķ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vēlamo sasniegšanas vērtību noteikšana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Rādītāju skaita pārskatīšana (vai nav par daudz?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Sasaiste ar nozares mērķiem (nozares stratēģijas kaskadēšana)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36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8B48-85A1-4706-A060-F84D12FC70F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474-F935-4393-8FC6-7DCC23B177A2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1"/>
          <a:stretch/>
        </p:blipFill>
        <p:spPr>
          <a:xfrm>
            <a:off x="5083200" y="2394000"/>
            <a:ext cx="40608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2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procesu/atbildības precizēšana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Rādītāju apkopošanas rīka/ sistēmas izvēle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Vienots MS Excel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Speciāli izveidota Acces vai Web datu bāze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TM QPR Balanced Scorecard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0" y="242568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Turpmākie darbi - 3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Normatīvo aktu grozīšana, atvieglojot informācijas apmaiņu starp iestādēm (informācija par klientu sodāmību, u.c.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olitikas rezultātu rādītāju apkopošanas sistēmas izveide nozares mērogā,  salīdzināšana citu valstu rādītājiem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Integrācija ar valsts līmeņa rādītāju sistēmu (it kā paredzēts tādu veidot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5083200" y="1746360"/>
            <a:ext cx="40608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2178000"/>
            <a:ext cx="6985080" cy="620640"/>
          </a:xfrm>
          <a:prstGeom prst="rect">
            <a:avLst/>
          </a:prstGeom>
          <a:solidFill>
            <a:srgbClr val="244583"/>
          </a:solidFill>
          <a:ln w="0">
            <a:noFill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273040"/>
            <a:ext cx="7467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Calibri"/>
              </a:rPr>
              <a:t>Pētījuma pārskat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ētījuma metodoloģija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Galvenie secinājum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Priekšlikumi nākotnei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05" name="Slide Number Placeholder 7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21D2-B35D-46AC-A597-3FFBDDBAD3B2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5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9C0B-313D-4E4B-8361-4F36B0F9A5AB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68000" y="440964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PALDIES!</a:t>
            </a:r>
            <a:br>
              <a:rPr sz="3600"/>
            </a:b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JŪSU JAUTĀJUMI</a:t>
            </a:r>
            <a:br>
              <a:rPr sz="3600"/>
            </a:br>
            <a:br>
              <a:rPr sz="2000"/>
            </a:b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 Solovjovs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9209928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ivars.solovjovs@isconsulting.lv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 Linkuma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Tālr. 26174127</a:t>
            </a:r>
            <a:br>
              <a:rPr sz="2000"/>
            </a:b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veronika.linkuma@isconsulting.lv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4240" y="1646280"/>
            <a:ext cx="3911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Īsi par p</a:t>
            </a: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ētījumu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Rezultatīvo rādītāju sistēmas un datu analīzes prakses izpēte Ieslodzījuma vietu pārvaldē un Valsts probācijas dienestā 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Daļa no Norvēģijas valdības  divpusējā finanšu instrumenta projekta Nr. LV0024 „Latvijas probācijas un ieslodzījuma vietu sistēmas personāla kapacitātes celšana”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Izpildītājs – IS Consulting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Calibri"/>
              </a:rPr>
              <a:t>Laiks – 2010.gada 20.augusts – 15.decembris</a:t>
            </a:r>
            <a:endParaRPr b="0" lang="en-US" sz="32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009-2873-402E-BB2F-9CEBFF33ACB9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A90B-1F03-4F17-B727-92A837649384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Darba uzdevum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80000" y="2224080"/>
            <a:ext cx="4906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vērtēt Ieslodzījuma vietu pārvaldes un Valsts probācijas dienesta rezultātu un rezultatīvo rādītāju sistēmas un ar tām saistīto datu uzkrāšanas un analīzes praks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Izstrādāt priekšlikumus rezultatīvo rādītāju sistēmas un datu analīzes pilnveidošanai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14" name="Date Placeholder 4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00E-B2D5-4F93-9997-DD313B94A573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9284-B5E4-485C-A512-CE183A12782A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2600" y="2732040"/>
            <a:ext cx="3030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0011-669C-4EC7-8BBC-5784DA2781C0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7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AB28-B252-413C-937D-0E3072731544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7680" y="2714760"/>
            <a:ext cx="8281800" cy="2003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jekta izpildes pieeja (soļi)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aveiktais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2408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Novadītas 28 intervijas ar abu iestāžu pārstāvjiem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61140"/>
                </a:solidFill>
                <a:latin typeface="Calibri"/>
              </a:rPr>
              <a:t>Organizētas 3 fokusgrupas:</a:t>
            </a: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apspriešanas fokusu grupa (VPD un IeVP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Rādītāju iegūšanas, apkopošanas un analīzes proces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B593-AD45-4CE0-8BB9-20BBCFE329B0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66A2-F7D2-4ABB-8210-6DF8F897F612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5076720" y="2394000"/>
            <a:ext cx="381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Rezultāti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61140"/>
                </a:solidFill>
                <a:latin typeface="Calibri"/>
              </a:rPr>
              <a:t>Izveidota rādītāju karte/ saraksts katrai iestādei atsevišķi (~130 + 150 rādītāji)</a:t>
            </a: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Darbības rezultāta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aksturo darba kvalitāti/ efektivitāti, tie rādītāji kas tieši atkarīgi no iestādes darbības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“Izlīgumu īpatsvars, kuros tika panākts izlīgums”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Informatīvie rādītāji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rādītāji, kas nav tieši atkarīgi no konkrētas iestādes darbības (šie rādītāji pamatā raksturo izejas datus )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piespriesto piespiedu darbu stundu skaits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61140"/>
                </a:solidFill>
                <a:latin typeface="Calibri"/>
              </a:rPr>
              <a:t>Politikas rezultātu rādītāji  </a:t>
            </a:r>
            <a:r>
              <a:rPr b="0" lang="lv-LV" sz="2400" spc="-1" strike="noStrike">
                <a:solidFill>
                  <a:srgbClr val="061140"/>
                </a:solidFill>
                <a:latin typeface="Calibri"/>
              </a:rPr>
              <a:t>-  raksturo ietekmi uz sabiedrību plašākā mērogā (parasti to ietekmē vairāki faktori) </a:t>
            </a: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114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61140"/>
                </a:solidFill>
                <a:latin typeface="Calibri"/>
              </a:rPr>
              <a:t>piem., visi ar recidīvu saistītie rādītāji</a:t>
            </a:r>
            <a:endParaRPr b="0" lang="en-US" sz="20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611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61140"/>
              </a:solidFill>
              <a:latin typeface="Calibri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449-DBE0-4481-B3E9-25C414CCB0CC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8644-4141-4A94-A892-4428675EE47C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PD darbības rezultātu kart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45720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E0D-1EF1-4C3E-801A-61EC418747B8}" type="datetime">
              <a:rPr b="0" lang="cs-CZ" sz="14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DEDE-C996-404B-B4D2-034DC36C0ACF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-36360" y="1674720"/>
            <a:ext cx="923436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user</cp:lastModifiedBy>
  <dcterms:modified xsi:type="dcterms:W3CDTF">2010-12-15T08:49:08Z</dcterms:modified>
  <cp:revision>52</cp:revision>
  <dc:subject/>
  <dc:title>Slide 1</dc:title>
</cp:coreProperties>
</file>