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5DA-4810-4104-BB26-43934377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7723-726A-481B-BE7F-7305B139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8DB-7CE2-4E01-968E-B358FEA1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002-9FAC-4764-AA4A-85FA238C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42E-0896-4E02-BAD7-28DF5503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4BA-FA59-487B-973D-490EF6E8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536-B9CF-4EEC-9C74-09465610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55F-8F5E-42D8-B748-3D816CB5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DA9-2FB4-46BA-9EE7-A00D73DD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F96-0266-4A0F-9FEB-ECECE28B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25E-2045-49F6-9823-CFE8AE15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600-E16B-441C-B657-EF9B202C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3724-1126-4E58-B280-E0C482019DA2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2856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Education of criminal justice officers in Esto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Rait Ku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ison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inistry of Justice of Est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it.kuuse@just.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Joint main priorities for in-service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the logic and to use risk-assessment methodology and relate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individual sentence planning methodology an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run rehabilitation programmes (f.ex. ART, Equip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Special curriculum for probation offi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a wish to move prison and probation more closer – learning points are on both s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2010 first group of probation officers (10) started to study prison matters in the college by special program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ying is lasting for 1 year and full salary is p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result those probation officers are able to work in and outside of prison wall in equal te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Future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Joint trainings with pris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obation officers more active regards prisoners, flexibility of working in the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Practice related trainings more and mo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 mid term perspective - Probation officers take over the tasks of social welfare departments in p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ait.kuuse@just.e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he structure of th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Brief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ducation of pris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ducation of probation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ystem of in-service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fact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844280"/>
            <a:ext cx="871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5 prisons, 3423 pris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4 regional probation departments, 7027 probationers + pre-sentence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1800 of staff, including 217 probation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risons and probation departments united since 2008 into on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94760" cy="5753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th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140360" y="587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c00000"/>
                </a:solidFill>
                <a:latin typeface="Arial"/>
              </a:rPr>
              <a:t>Latvia </a:t>
            </a:r>
            <a:r>
              <a:rPr b="0" lang="et-EE" sz="24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Introduction – probatio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44280"/>
            <a:ext cx="3394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sentence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tio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3280" y="119664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95280" y="1773000"/>
            <a:ext cx="469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sentence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ation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Parole + electronic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bation Order as a measure for juven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mination of criminal proceedings with communit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unit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Electronic monitoring  as  a separate alternative (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raining of prison offi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lege of Justice of the 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oni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adem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curit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ci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only institution of educatio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ison officials with a professional education for the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Estonian Priso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llege of Ju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al higher 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ducating future middle and senior level prison offici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cational edu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basis of secondary education –guards and senior 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ing 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Organization of various courses for prison officials in while in service for maintaining and improving their professional sk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Requirements for probation offi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1 years of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Higher education (min 3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oci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ocial pedagog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rrection (College ofJusti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propriate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MA degree an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0000"/>
                </a:solidFill>
                <a:latin typeface="Arial"/>
              </a:rPr>
              <a:t>The system of in-service trai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MoJ Penitentiary Department has a leading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orrectional College responsible for organisation of trainings for all prison officials (incl probation offic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nual training plan is drafted and agreed and implemented by Col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College involves needed specialists, lecturers for the delivery of the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09:55:04Z</dcterms:created>
  <dc:creator>indrek Saarmets</dc:creator>
  <dc:description/>
  <dc:language>en-US</dc:language>
  <cp:lastModifiedBy>rait.kuuse</cp:lastModifiedBy>
  <dcterms:modified xsi:type="dcterms:W3CDTF">2010-12-15T07:12:52Z</dcterms:modified>
  <cp:revision>31</cp:revision>
  <dc:subject/>
  <dc:title>Viru Vangla arengukava</dc:title>
</cp:coreProperties>
</file>