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B6A-9E7B-4333-8045-4C5B0E84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F62-E411-40DE-AD7D-255F4C74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1E5-7AF0-47C1-BEB5-E148A98E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22408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6404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99D-A956-43B0-BB82-85167C94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B42-FD5F-475D-A467-7336E81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652-61B4-4503-B6C6-60F7E2B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71E-73BB-403E-881F-6C3C28F5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8F2-AB5A-48A8-B016-54A81B8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1015920"/>
            <a:ext cx="82296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F9B-E22A-46EC-8112-4231856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63A-7E74-4D9C-9ED9-1805C46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6404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D95-1380-49F9-BD99-1FACC1BB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2408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404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CDA-3407-4180-9783-1F12764B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00" b="0"/>
          <a:stretch/>
        </p:blipFill>
        <p:spPr>
          <a:xfrm>
            <a:off x="1835280" y="210960"/>
            <a:ext cx="7345080" cy="565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11320" y="1141560"/>
            <a:ext cx="6845400" cy="617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1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1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1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83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9832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7E4-2CB0-4C6C-A57A-069BDE18F62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rcRect l="60491" t="0" r="0" b="313"/>
          <a:stretch/>
        </p:blipFill>
        <p:spPr>
          <a:xfrm>
            <a:off x="0" y="210960"/>
            <a:ext cx="611280" cy="563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611280" y="210960"/>
            <a:ext cx="1295280" cy="57312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562040"/>
            <a:ext cx="60962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987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rvēģijas valdības divpusējā finanšu instrumenta līdzfinansētais individuālais projekts Nr. LV0024 </a:t>
            </a: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,,Latvijas probācijas un ieslodzījuma vietu personāla kapacitātes celšana”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333399"/>
                </a:solidFill>
                <a:latin typeface="Arial"/>
              </a:rPr>
              <a:t>Noslēguma konference - Projekta rezultātu izplatīšana</a:t>
            </a:r>
            <a:br>
              <a:rPr sz="1800"/>
            </a:br>
            <a:br>
              <a:rPr sz="1800"/>
            </a:br>
            <a:r>
              <a:rPr b="1" lang="lv-LV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333399"/>
                </a:solidFill>
                <a:latin typeface="Arial"/>
              </a:rPr>
              <a:t>VPD un IeVP darbinieku apmācība </a:t>
            </a:r>
            <a:br>
              <a:rPr sz="2800"/>
            </a:b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V0024 Apmācību nodaļas </a:t>
            </a:r>
            <a:br>
              <a:rPr sz="2400"/>
            </a:b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vadītāja Daina Vanag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u dalībnieku atziņas par visnoderīgāko MI apmācībā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 labāk uzdot jautājumus un kādus, lai izvilktu no klienta nepieciešamos resursus viņa iespējamai maiņai bez konfrontācija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ādēļ cilvēks mainās vai nemainās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svērt cilvēku uz dialogu un pārmaiņām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n bija svarīgi uzzināt kā veicināt klientu veikt  pārmaiņas sevī un es to uzzināj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4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992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ācību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mācību vizītes (Norvēģijā, Dānijā, Francijā), kurās piedalījās 24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s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iepazīties ar probācijas un ieslodzījuma vietu darbinieku apmācību pieredzi un gūt informāciju mācību programmu izstrāde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7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ieredzes apmaiņas vizī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as četras pieredzes apmaiņas vizītes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(Īrijā, Norvēģijā, Austrijā),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kurās piedalījās 45 pārstāvji no IeVP un VPD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333399"/>
                </a:solidFill>
                <a:uFillTx/>
                <a:latin typeface="Arial"/>
              </a:rPr>
              <a:t>Mērķi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– gūt pieredzi par izlīguma organizēšanu starp cietušo un likumpārkāpēju, iepazīties ar darba metodēm sabiedrībā izciešamo sodu organizēšanā, pētīt resocializācijas praksi ieslodzījuma vietā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līšanās ārvalstu pieredz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jekta īstenošanas laikā tika iekļauta jauna aktivitāt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Dalīšanās ārvalstu pieredzē”,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kas sasaucās ar kopējo projekta mērķi – paaugstināt probācijas sistēmā nodarbināto kompetenci un darba kvalitāti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ieredzes apmaiņas semināra mērķis - pēc iespējas lielāku probācijas darbinieku skaitu iepazīstināt ar citu Eiropas valstu progresīvo pieredzi probācijas jomā, tādejādi attīstot darbinieku motivāciju pilnveidot savas zināšanas, prasmes un iemaņas darbā ar probācijas klientiem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ā kopumā piedalījās 50 VPD darbinieki, kas pārstāvēja visas TSV un to filiāle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lēģ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onsultāci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Lai uzlabotu probācijas darba kvalitāti darbā ar klientu, sniegtu savstarpēju atbalstu un vienlaicīgi novērtētu iepriekš minēto apmācību efektivitāti tika iekļauta jauna aktivitāte </a:t>
            </a:r>
            <a:r>
              <a:rPr b="1" lang="lv-LV" sz="2400" spc="-1" strike="noStrike">
                <a:solidFill>
                  <a:srgbClr val="333399"/>
                </a:solidFill>
                <a:latin typeface="Arial"/>
              </a:rPr>
              <a:t>“Kolēģu konsultācijas”,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 kas sasaucas ar iepriekš minēto projekta mērķi - paaugstināt probācijas sistēmā nodarbināto kompetenci un darba kvalitāt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laikā tiks īstenoti 16 profesionālā atbalsta pasākumi, kuros kopumā piedalīsies 192 probācijas darbinieki. Kolēģu konsultācijās piedalās darbinieki, kas ir iepriekš piedalījušies apmācībās, tādējādi turpinot apmācību pieredz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Trīs galvenās diskusiju tēmas –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;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urpinājum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tījums “Par probācijas un ieslodzījuma vietu darbinieku apmācību vajadzībām, kompetencēm un esošo apmācību programmu izvērtēšanu”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IeVP un VPD darbinieku mācību programmu izstrāde un pilnveide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Norvēģijas nacionālā mediācijas dienesta atbalsts izlīguma speciālistu sagatavošanā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8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776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slēguma diskusij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6180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fesionāla speciālista kompetenci raksturo – zināšanas, prasmes un vērtības (attieksmes), lai kvalitatīvi veiktu savu darbu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9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va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valitātes jautājumi:</a:t>
            </a:r>
            <a:endParaRPr b="0" lang="en-US" sz="32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ib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rīkst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ai es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pēju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šo (konkrēto) darbu darīt?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0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 nodaļas uzdev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VPD un IeVP darbinieku apmācību semināru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mācību semināru programmu izstrādi un mācību materiālu tulko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lānot un organizēt pieredzes apmaiņas vizītes un mācību vizītes uz ārvalstī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pētījuma veikšanu par probācijas un ieslodzījuma vietu darbinieku apmācību vajadzībām, kompetencēm un esošo apmācību programmu izvērtēšanu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Organizēt apmācību programmu izstrādi un pilnveidi probācijas un ieslodzījuma vietu darbinieku apmācībai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3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nansē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ējais projekta budžets EUR 869 9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mācību nodaļas uzdevumu realizēšanai plānotais finansējums EUR 619 796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6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1556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rbinieku apmāc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ānotais - 570 dalībnieku apmācība 32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ināro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22 semināros tiks apmācīti 351 dalīb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opumā projekta ietvaros tiks noorganizēti 54 semināri, kuros piedalīsies 932 dalībnieki (IeVP 364 un VPD 568)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 apmācīti 314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bācijas darbiniek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o projekta īstenošanas laikā apmācītajiem darbiniekiem probācijā vairs nestrādā 53 semināru dalībnieki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z 15.12.2010.apmācīti 190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eslodzījuma vietu darbinieki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59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mācīb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pildus organizēti semināri: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29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dzimumnoziedzniekie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 11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rbs ar atkarīgām personā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seminārs /2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3 semināri / 37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vējošā intervēšan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 16 semināri / 256 dalībnieki)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2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progra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rojekta ietvaros ir izstrādātas semināru programmas: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personām ar garīgas veselības traucējum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dzimumnoziedzniekie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Darbs ar atkarīgām personām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ersonības attīstības treniņš: emociju pārvaldīšana un stresa pārvarēšana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tēmas iekļautas darbinieku apmācību programmā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5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mināru lek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240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programmas izstrādāja profesionāļi konkrētajā jomā (ārsti, psihologi, psihoterapeiti utml.)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s vadīja speciālisti no ASV, Norvēģijas, Dānijas, Ziemeļīrijas un Šveices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peciālisti no Latvijas  vadīja seminārus –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atkarīgām personā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personām ar garīgas veselības traucējumiem”, 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lv-LV" sz="2000" spc="-1" strike="noStrike">
                <a:solidFill>
                  <a:srgbClr val="333399"/>
                </a:solidFill>
                <a:latin typeface="Arial"/>
              </a:rPr>
              <a:t>Darbs ar dzimumnoziedzniekiem”.</a:t>
            </a:r>
            <a:endParaRPr b="0" lang="en-US" sz="20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68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159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ējošā interv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23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61140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Pēctecību projekta realizācijā nodrošinās 16 apmācītie semināru “Motivējošā intervēšana” (MI) vadītāji, kas projekta ietvaros novadīs 16 seminārus, kopumā apmācot 256 IeVP un VPD darbiniekus. 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MI vadītājus sagatavoja Īlas cietuma speciālisti no Norvēģijas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lv-LV" sz="2400" spc="-1" strike="noStrike">
                <a:solidFill>
                  <a:srgbClr val="333399"/>
                </a:solidFill>
                <a:latin typeface="Arial"/>
              </a:rPr>
              <a:t>Semināru dalībnieki motivējošās intervēšanas apmācību atzinīgi novērtē, kā darba instrumentu darbam ar klientu gan IeVP, gan VPD.</a:t>
            </a: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1140"/>
              </a:solidFill>
              <a:latin typeface="Arial"/>
            </a:endParaRPr>
          </a:p>
        </p:txBody>
      </p:sp>
      <p:pic>
        <p:nvPicPr>
          <p:cNvPr id="71" name="Picture 7" descr="Norway_grants_logo2.jpg"/>
          <p:cNvPicPr/>
          <p:nvPr/>
        </p:nvPicPr>
        <p:blipFill>
          <a:blip r:embed="rId1"/>
          <a:stretch/>
        </p:blipFill>
        <p:spPr>
          <a:xfrm>
            <a:off x="6948360" y="162000"/>
            <a:ext cx="138744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18:11:22Z</dcterms:created>
  <dc:creator>Kristaps</dc:creator>
  <dc:description/>
  <dc:language>en-US</dc:language>
  <cp:lastModifiedBy>ilva.cimdina</cp:lastModifiedBy>
  <dcterms:modified xsi:type="dcterms:W3CDTF">2010-12-14T14:09:18Z</dcterms:modified>
  <cp:revision>33</cp:revision>
  <dc:subject/>
  <dc:title>Slide 1</dc:title>
</cp:coreProperties>
</file>