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F7F-5A6C-4B0C-ABC4-5F55C90F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BFF-53F3-4BEB-BCEE-7B4DA485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67F-1915-439F-A80A-0A8B10B5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954-D7B0-4329-A4CD-AE8895FB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CCA-E075-4F20-AB5F-78713FA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714-62A7-47BA-B5F4-0EBBDEEA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4CB-7E59-43AE-A1AA-29F0FB84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985-8D6A-410B-9804-1892196C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FDB-6112-489E-8813-0277F120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F574-190A-48F1-B462-28744CCF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406-A9AB-433D-A9FD-1D3233E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7BB-A8C8-4A8E-A539-F060F88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6EA0-1D87-48D5-AECE-333E917EC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1746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ndividuālais projekts Nr.LV0024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lv-LV" sz="3600" spc="-1" strike="noStrike">
                <a:solidFill>
                  <a:srgbClr val="333399"/>
                </a:solidFill>
                <a:latin typeface="Arial"/>
              </a:rPr>
              <a:t>Latvijas probācijas un ieslodzījuma vietu sistēmas personāla kapacitātes celšana” </a:t>
            </a:r>
            <a:endParaRPr b="0" lang="en-US" sz="3600" spc="-1" strike="noStrike">
              <a:solidFill>
                <a:srgbClr val="06114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Mihails Papsujevič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vadītāj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4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jekta īstenotājs un partn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224080"/>
            <a:ext cx="88567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Īstenotājs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 u="sng">
                <a:solidFill>
                  <a:srgbClr val="333399"/>
                </a:solidFill>
                <a:uFillTx/>
                <a:latin typeface="Arial"/>
              </a:rPr>
              <a:t>Valsts prob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Partne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Norvēģijas Nacionālais mediācijas dienests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333399"/>
                </a:solidFill>
                <a:latin typeface="Arial"/>
              </a:rPr>
              <a:t>- Ieslodzījuma vietu pārvalde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1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mērķ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probācijas sistēmā un ieslodzījuma vietās nodarbināto kompetences un darba kvalitātes paaugstināšana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vienotas pieejas veidošana apmācību un pētnieciskā darba organizēšanā Valsts probācijas dienestā un Ieslodzījuma vietu pārvaldē</a:t>
            </a: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Arial"/>
              </a:rPr>
              <a:t>Finansējums – 869 996 EUR 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(85% Norvēģijas valdības finanšu instruments, 15% Latvijas valsts finansējums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4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plānotie rezultā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5 apmācību semināru organiz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548 probācijas dienesta un ieslodzījuma vietu sistēmas darbinieku apmācīb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3 apmācību programmu izstrāde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ācību vizīšu organizēšana 71 darbiniek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oncepcijas projekta izstrāde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 Valsts probācijas dienesta un Ieslodzījuma vietu pārvaldes pētījumu plānu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 3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7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ojekta sasnieg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4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apmācību seminār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apmācīti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916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robācijas dienesta un ieslodzījuma vietu sistēmas darbiniek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as 3 apmācību programmas probācijas un ieslodzījuma vietu sistēmas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mācību vizīte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8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darbi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koncepcijas projekts par pētniecības un apmācību jautājumu attīstību probācijas un ieslodzījuma vietu sistēm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zstrādāts Valsts probācijas dienesta un Ieslodzījuma vietu pārvaldes pētījumu plāns 2010. – 2013. gada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īstenotas </a:t>
            </a: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5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pētījumu iniciatīva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0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ozīmīgākie ieguv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Apmācības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16 darbinieki apmācīti par ,,Motivējošās intervēšanas” metodes lektoriem – un māca citus darbiniekus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mācību vizītē gūtās atziņas par citu ES valstu pieredzi sabiedrības iesaistē darbā ar likumpārkāpējiem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izstrādātas apmācību programmas probācijas un ieslodzījuma vietu sistēmas darbiniekiem un īstenota atsevišķu šo programmu moduļu satura izstrāde un aprobācija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sadarbībā ar Norvēģijas Nacionālo mediācijas dienestu pilnveidots Latvijas brīvprātīgo izlīguma starpnieku apmācības process 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Pētījumi: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cidīva rādītāji, to noteikšanas kārtība un piemērošana Valsts probācijas dienesta un Ieslodzījumu vietu pārvaldes darb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i="1" lang="lv-LV" sz="1800" spc="-1" strike="noStrike">
                <a:solidFill>
                  <a:srgbClr val="333399"/>
                </a:solidFill>
                <a:latin typeface="Arial"/>
              </a:rPr>
              <a:t>Rezultatīvo rādītāju sistēmas un datu analīzes prakses izpēte Ieslodzījuma vietu pārvaldē un Valsts probācijas dienestā”</a:t>
            </a:r>
            <a:endParaRPr b="0" lang="en-US" sz="18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3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828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norwegian_financial_mechanism_logo" descr=""/>
          <p:cNvPicPr/>
          <p:nvPr/>
        </p:nvPicPr>
        <p:blipFill>
          <a:blip r:embed="rId1"/>
          <a:stretch/>
        </p:blipFill>
        <p:spPr>
          <a:xfrm>
            <a:off x="7093080" y="162000"/>
            <a:ext cx="1150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mihailsp</cp:lastModifiedBy>
  <dcterms:modified xsi:type="dcterms:W3CDTF">2011-01-05T09:51:49Z</dcterms:modified>
  <cp:revision>24</cp:revision>
  <dc:subject/>
  <dc:title>Slide 1</dc:title>
</cp:coreProperties>
</file>