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A8B-FCDC-45FD-8778-31A4E730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F14-11C8-4A94-8ED8-337A1CA2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011-F7C9-446F-B20D-5AC89800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CA4-7F9D-4E02-A560-724C6997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5BE7-C114-421F-9B83-A6677A71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5A84-9132-4CC5-9F7F-621602D0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D99A-71AB-4EEB-B4AC-A0B7574C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64B5-8194-4A90-BEDB-A41F5F8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ED75-F9A9-4837-9143-B807F1A1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CB14-3311-4DB2-9C38-E79D4605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FA22-5A9B-43B0-8E6C-9DFABA5C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C2A-CC1F-44BA-A259-7ABCD645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3360-4541-474C-81FE-213F9161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EFC6-B04D-408E-9D5B-431D407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2D50-27A5-448F-BB5C-C4FEEB7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6B61-A3C0-4FE7-BB6F-B9F9A3A6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FB74-DE4A-45D7-BC3A-80D76F5F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B06-0D35-42E3-A894-C6871173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F9D-0DED-42F5-92D2-E0213CE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92A-FE85-4E85-BE94-C56C79DA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E9B-4A5A-4A00-B98B-ED6DC6E1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FBE-338C-4D1D-A025-8B26DA9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CB0-FBFA-44F8-BFCE-68C707DB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76D-A5FD-4DEE-915D-BA55F6C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E2CB-74C9-40B8-A6BD-6C78568C2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73E-BD2D-496F-9621-B73AAAE53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Valsts probācijas dienesta individuālais projekts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r. LV 0024 “Latvijas probācijas un ieslodzījuma vietu sistēmas personāla kapacitātes celšana”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3. aktivitā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pmācību programmu izstrādes nepieciešamīb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Izveidot vienotu mācību procesu Mācību centrā un ieslodzījuma vietā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Aktualizēt esošo programmu satur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Optimizēt mācību proces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Pielietot vienotas, mūsdienīgas apmācības met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Samazināt mācību procesa izmak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Arial"/>
              </a:rPr>
              <a:t>Jaunāko virsnieku penitenciāro zināšanu trūku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fesionālās tālākizglītības programmas “Ieslodzījuma vietu apsardze”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3 līmeņa profesionālā kvalifikācija “Cietuma jaunākais inspektors”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brīd realizējamās programm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zstrādātā mācību program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līmeņa profesionālā kvalifikācija “Cietuma vecākais uzraug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līmeņa profesionālā kvalifikācija “Cietuma jaunākais inspektors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– 9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as apjoms - 9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u realizē – Mācību centrs un ieslodzījuma vie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mācības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4191120"/>
            <a:ext cx="2590920" cy="198108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ksāme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ācību centr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676520"/>
            <a:ext cx="1905120" cy="14475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ietum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086600" y="1676160"/>
            <a:ext cx="1752840" cy="1447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4343400"/>
            <a:ext cx="2209680" cy="16002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2057400" cy="152388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1676520"/>
            <a:ext cx="1752840" cy="144756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k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1752480"/>
            <a:ext cx="1905120" cy="144792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orētiskā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mācīb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ācību centr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fesionālās kvalifikācijas pilnveides programma virsniekiem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480" y="1746000"/>
            <a:ext cx="6782760" cy="4791240"/>
            <a:chOff x="762480" y="1746000"/>
            <a:chExt cx="6782760" cy="4791240"/>
          </a:xfrm>
        </p:grpSpPr>
        <p:sp>
          <p:nvSpPr>
            <p:cNvPr id="229" name="_s40990"/>
            <p:cNvSpPr/>
            <p:nvPr/>
          </p:nvSpPr>
          <p:spPr>
            <a:xfrm flipH="1" flipV="1">
              <a:off x="2801880" y="3458520"/>
              <a:ext cx="676440" cy="39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40989"/>
            <p:cNvSpPr/>
            <p:nvPr/>
          </p:nvSpPr>
          <p:spPr>
            <a:xfrm>
              <a:off x="1263960" y="2449080"/>
              <a:ext cx="172836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t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40988"/>
            <p:cNvSpPr/>
            <p:nvPr/>
          </p:nvSpPr>
          <p:spPr>
            <a:xfrm flipH="1">
              <a:off x="2467800" y="4372920"/>
              <a:ext cx="845640" cy="13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40987"/>
            <p:cNvSpPr/>
            <p:nvPr/>
          </p:nvSpPr>
          <p:spPr>
            <a:xfrm>
              <a:off x="7624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dicīn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40986"/>
            <p:cNvSpPr/>
            <p:nvPr/>
          </p:nvSpPr>
          <p:spPr>
            <a:xfrm flipH="1">
              <a:off x="340380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40985"/>
            <p:cNvSpPr/>
            <p:nvPr/>
          </p:nvSpPr>
          <p:spPr>
            <a:xfrm>
              <a:off x="2163960" y="529344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ilitār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40984"/>
            <p:cNvSpPr/>
            <p:nvPr/>
          </p:nvSpPr>
          <p:spPr>
            <a:xfrm>
              <a:off x="4528440" y="4793400"/>
              <a:ext cx="375480" cy="563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40983"/>
            <p:cNvSpPr/>
            <p:nvPr/>
          </p:nvSpPr>
          <p:spPr>
            <a:xfrm>
              <a:off x="4415040" y="529344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iholoģ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_s40982"/>
            <p:cNvSpPr/>
            <p:nvPr/>
          </p:nvSpPr>
          <p:spPr>
            <a:xfrm>
              <a:off x="4993920" y="4371120"/>
              <a:ext cx="846360" cy="14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40981"/>
            <p:cNvSpPr/>
            <p:nvPr/>
          </p:nvSpPr>
          <p:spPr>
            <a:xfrm>
              <a:off x="5816880" y="4026960"/>
              <a:ext cx="172836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konomisk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40980"/>
            <p:cNvSpPr/>
            <p:nvPr/>
          </p:nvSpPr>
          <p:spPr>
            <a:xfrm flipV="1">
              <a:off x="4826520" y="3458160"/>
              <a:ext cx="679320" cy="38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_s40979"/>
            <p:cNvSpPr/>
            <p:nvPr/>
          </p:nvSpPr>
          <p:spPr>
            <a:xfrm>
              <a:off x="5315400" y="244728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edagoģ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40978"/>
            <p:cNvSpPr/>
            <p:nvPr/>
          </p:nvSpPr>
          <p:spPr>
            <a:xfrm flipV="1">
              <a:off x="4152600" y="2989440"/>
              <a:ext cx="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40977"/>
            <p:cNvSpPr/>
            <p:nvPr/>
          </p:nvSpPr>
          <p:spPr>
            <a:xfrm>
              <a:off x="3288240" y="1746000"/>
              <a:ext cx="1728720" cy="12438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Juridisk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40976"/>
            <p:cNvSpPr/>
            <p:nvPr/>
          </p:nvSpPr>
          <p:spPr>
            <a:xfrm>
              <a:off x="3288240" y="3613680"/>
              <a:ext cx="1728720" cy="12441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enitenciārā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ffffff"/>
                  </a:solidFill>
                  <a:latin typeface="Arial"/>
                </a:rPr>
                <a:t>pamatzināšan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aldies par uzmanību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400040" cy="933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600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a.Andriksone</cp:lastModifiedBy>
  <dcterms:modified xsi:type="dcterms:W3CDTF">2010-12-15T06:59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